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13F-4EF0-4529-82CE-C9DBF4F9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1C9-6A16-433B-A4BD-01F0931F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F46-802B-4760-A1E8-AED62D34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B55-7671-4566-B1A8-BB18E352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5D67-92E6-40FB-A9C9-922E0095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37EE-319D-404F-849D-EAA5780B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BB49-0B04-4E3E-B3FE-34B74076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F654-D2A8-4ED7-878D-DD22858D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52D2-9766-4219-9F1F-27D03F5C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07C4-6ADB-4E73-8FCA-95E8F8E9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04AD-FE27-4446-92D4-AB3E9F45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21A-BF3E-4B1E-B998-756EE678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0444-B443-447A-812C-F90E144A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77E3-6B25-42BA-AEE1-D225583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0275-6DEC-4663-B156-E7EDF0EA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39FA-76A4-4049-BCE3-BD2F0D09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3AE7-E214-415E-863D-0C59F212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6835-EFE3-4CB3-BA06-AA6D47DC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ADA6-7B5D-498F-ABF6-B77A066A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F1E72-1880-46B4-9A9B-167E38CD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4645-DBBF-4767-A969-9BF1CD7B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A8288-F1C0-4C1E-8113-161DE628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F86-CD48-40DE-9475-7E4A1D4D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C533-D698-4871-A51E-963768E2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27B94-6788-4A11-A00B-171EBC5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939F-1FCD-4F6B-AF6A-FC903A51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6EA5-A7A4-4864-A2CD-88E64DC4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8286B-3E34-4D3F-91A5-CAB936AB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0430D-EB2A-4BF2-89FA-6F23E292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2B3DA-B578-44C8-B98E-3D7919AD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EA7B0-6984-4CB2-BFFF-7AEE64C5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7E6D-F5A1-4BA4-9274-69634435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A2FA6-9373-4536-89F1-E61D8D1E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413-FF05-404B-AED3-1E4EE237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9B90-EC02-48DF-8466-5D6C8058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5889-4CF6-46DD-ADB6-5CC476C2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DD8FA-C0B0-4778-B9D2-9249AE8E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F12A-24AF-42CD-97FD-51F4BB20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717A-176A-4752-B315-B195091E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7C852-929F-4AB0-B06A-B5D378CE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F5AB6-AB08-4EC1-8595-506D27A3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29E50-B7C5-4C44-9709-1F37028D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BA0AF-83B4-46C6-99F1-BCECF4BF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04B0E-F269-45C2-B911-69A0A276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8A5-BE39-4F98-8410-87DD8969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8D7E0-62BB-4431-B71E-A723BF29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C2356-FB2B-415A-B807-7583FA48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BB8B2-F3EE-46CA-8395-B05A2F38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573A8-4947-4EC1-AE4E-4E3D4B2F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EA4C3-738F-4D42-B64A-1B18E56D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D45BD-E5EF-47A7-BC67-ED35DB17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D3293-D592-4AB2-9324-D1B3F944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F070B-2066-4A2D-920A-B00FE05E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F6EAC-1494-4B76-9FDB-6ADF0FCB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84A5E-4FD2-402A-A162-37496474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20E-AE4A-40CB-B143-2C2A1C97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F2F37-41B8-486E-92E6-D5445646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5C291-4A20-4546-91C0-F432C8E8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A0B67-0D04-4E5C-98DD-00128B22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C1B57-AB36-4F24-B824-611F7879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6CE70-0500-48DC-A202-614533A9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81805-541D-4161-884E-2E92047A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663F0-03F1-4059-9F4F-2D9CE6B4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981CA-50D7-471D-88B8-1C89FB17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28B14-57D5-43D9-A1C1-AC2FEA0B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70E81-FBD2-449C-B8E9-706FF269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B63-1918-4931-B055-0560CDC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40E48-BE0D-4A4B-A924-317D3614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1C51-AE77-4425-A94F-F949AE60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A0986-AD96-4228-AD18-A40A3CAD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AE6FC-57CE-4BA7-BEFB-D18DE4A0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F6664-7525-47A1-BDED-996DCCD2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FB1D3-F0D7-43D2-BA42-553EA988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04A38-E62C-4FF4-A80C-9DDFD14B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05A07-6B66-4C58-B0FA-8D9F49C0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26498-9D08-4B0C-AB39-B0910710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C542F-F9B4-4AF5-972F-DF2EBD44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F5E-2AE3-44E4-854B-B1A686BE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E849E-6C5F-438E-ABFA-079D0C07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77CCA-B383-4D33-B2AD-40B7783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FC652-8A72-4A98-9502-96EE3B5E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CF232-C661-4263-8C36-8FEE5C3D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1EBDE-4697-45F8-8485-0FE1E416E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F7361-ADE7-4E26-BB41-06F94820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8DF2C-55D3-49C8-9ABB-F6F02BAE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D0637-91D8-4E98-A4BD-503950E5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21A2D-2664-4991-8F66-A4D810C8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50779-27AB-4A42-9263-F905CD44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BD6-1540-4AA3-A299-C19BAF9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33AC2-2868-40D8-90E4-9A83514E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C3468-5337-4C41-A2AC-D710F439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F0B35-8C12-4E49-812C-04BBE7E1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5ECA3-5C0A-4197-A9D2-0711CF85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B5421-6D5B-4358-865A-10CD82DF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FCBAD-F8E1-4004-B393-FAA08E92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66142-468F-4B6D-BFCF-9C010CEC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DA01-27EA-417E-BB72-AB124335CB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F41C-4CAA-43DB-B23A-3FC9132ACF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C2AD-5A5E-41D7-85AE-B9564934DD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7B72-457D-4867-BB36-845B3D8092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17E0-5F03-4C78-A022-62FBC64D64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479A-D34B-4220-824E-8892AFC610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E427-01F3-48BC-9790-26B3AB0130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BD21-72AC-486C-B189-5C94BA4273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iandra Treti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~PP603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ffffff"/>
                </a:solidFill>
                <a:latin typeface="Lucida Sans Unicode"/>
              </a:rPr>
              <a:t>La Pelicula “El Mar Adentro” de Ramon Sampedro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Lucida Sans Unicode"/>
              </a:rPr>
              <a:t>E</a:t>
            </a:r>
            <a:r>
              <a:rPr b="0" lang="es-CO" sz="2200" spc="-1" strike="noStrike">
                <a:solidFill>
                  <a:srgbClr val="ffffff"/>
                </a:solidFill>
                <a:latin typeface="Lucida Sans Unicode"/>
              </a:rPr>
              <a:t>l era un tetrapl</a:t>
            </a:r>
            <a:r>
              <a:rPr b="0" lang="es-ES_tradnl" sz="2200" spc="-1" strike="noStrike">
                <a:solidFill>
                  <a:srgbClr val="ffffff"/>
                </a:solidFill>
                <a:latin typeface="Lucida Sans Unicode"/>
              </a:rPr>
              <a:t>é</a:t>
            </a:r>
            <a:r>
              <a:rPr b="0" lang="es-CO" sz="2200" spc="-1" strike="noStrike">
                <a:solidFill>
                  <a:srgbClr val="ffffff"/>
                </a:solidFill>
                <a:latin typeface="Lucida Sans Unicode"/>
              </a:rPr>
              <a:t>gico de 28 years  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Lucida Sans Unicode"/>
              </a:rPr>
              <a:t>Tenía una familia que se preocupaba por él, sin embargo, él todavía pensaba que la muerte era la única opción 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Lucida Sans Unicode"/>
              </a:rPr>
              <a:t>Bebió cianuro de potasio y murió después de ser asistido por una persona 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133800"/>
          </a:xfrm>
          <a:prstGeom prst="rect">
            <a:avLst/>
          </a:prstGeom>
          <a:ln w="0">
            <a:noFill/>
          </a:ln>
        </p:spPr>
      </p:pic>
      <p:pic>
        <p:nvPicPr>
          <p:cNvPr id="375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~PP2234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Lucida Sans Unicode"/>
              </a:rPr>
              <a:t>La legislación española: cualquier persona que ayuda a personas para poner fin a su propia vida, puede ser juzgado y declarado culpable de homicidio sin premeditació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Lucida Sans Unicode"/>
              </a:rPr>
              <a:t>Esa persona puede ser condenada a más de tres años de prisión   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4724280" y="2590920"/>
            <a:ext cx="3573720" cy="2971800"/>
          </a:xfrm>
          <a:prstGeom prst="rect">
            <a:avLst/>
          </a:prstGeom>
          <a:ln w="0">
            <a:noFill/>
          </a:ln>
        </p:spPr>
      </p:pic>
      <p:pic>
        <p:nvPicPr>
          <p:cNvPr id="379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~PP3187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España debería adoptar una ley de Francia, la ley del “Fin de La Vida”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médicos se les aconseja evitar tomar medidas extremas para no morir 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O mantener pacientes con muerte cerebral vivos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3740040" cy="2535480"/>
          </a:xfrm>
          <a:prstGeom prst="rect">
            <a:avLst/>
          </a:prstGeom>
          <a:ln w="0">
            <a:noFill/>
          </a:ln>
        </p:spPr>
      </p:pic>
      <p:pic>
        <p:nvPicPr>
          <p:cNvPr id="38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~PP3276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Lucida Sans Unicode"/>
              </a:rPr>
              <a:t>Alegaciones de la sedación que causan la muerte prematura de cuatrocientos pacientes con enfermedades terminales.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Lucida Sans Unicode"/>
              </a:rPr>
              <a:t>La legalización de la eutanasia, no haría sino aumentar los casos de este tipo de suicidios en masa que no han sido aceptados por los propios pacientes.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645000" cy="2728800"/>
          </a:xfrm>
          <a:prstGeom prst="rect">
            <a:avLst/>
          </a:prstGeom>
          <a:ln w="0">
            <a:noFill/>
          </a:ln>
        </p:spPr>
      </p:pic>
      <p:pic>
        <p:nvPicPr>
          <p:cNvPr id="387" name="Title 1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88" name="~PP3835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La legalización de la eutanasia, no haría sino aumentar los casos de este tipo de suicidios en masa que no han sido aceptados por los propios pacientes…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          </a:t>
            </a:r>
            <a:r>
              <a:rPr b="0" lang="es-ES" sz="2600" spc="-1" strike="noStrike">
                <a:solidFill>
                  <a:srgbClr val="ffffff"/>
                </a:solidFill>
                <a:latin typeface="Lucida Sans Unicode"/>
              </a:rPr>
              <a:t>y por eso, la eutanasia debe ser ilegal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3805200" cy="2743200"/>
          </a:xfrm>
          <a:prstGeom prst="rect">
            <a:avLst/>
          </a:prstGeom>
          <a:ln w="0">
            <a:noFill/>
          </a:ln>
        </p:spPr>
      </p:pic>
      <p:pic>
        <p:nvPicPr>
          <p:cNvPr id="391" name="Title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~PP3219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7:22:42Z</dcterms:created>
  <dc:creator>Diandra</dc:creator>
  <dc:description/>
  <dc:language>en-US</dc:language>
  <cp:lastModifiedBy>Diandra</cp:lastModifiedBy>
  <dcterms:modified xsi:type="dcterms:W3CDTF">2012-04-13T20:13:55Z</dcterms:modified>
  <cp:revision>18</cp:revision>
  <dc:subject/>
  <dc:title>La Eutanasia en España</dc:title>
</cp:coreProperties>
</file>